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F07A-E95D-49D4-9856-2DC2E688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AF35-B0C5-435D-A68A-81BFD3BD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CCFD-214A-4EA9-A4FF-F49AC714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562-ED17-45C5-BED5-7F6353EF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5A19-9EF4-4D2E-8E8B-29D93C08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39DF-7328-4D07-A5CE-3E5BD22C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1705-6493-4DE9-9117-D90590B1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2185-9722-461B-91B0-4FD0980E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EF14-0E20-4280-8528-B7394CC2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C2BB-CD84-45D7-8DB5-31782979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9004-1FFD-4472-9A5A-6C98A2CF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E262-0780-4470-91D9-EE53A570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5F2B-2BE8-4A91-BABA-BD7835ADD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sh and James’s new sewerage treatment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2205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f having a big hole of sewerage we can make the ho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04:46:11Z</dcterms:created>
  <dc:creator>joshua.grove</dc:creator>
  <dc:description/>
  <dc:language>en-US</dc:language>
  <cp:lastModifiedBy>joshua.grove</cp:lastModifiedBy>
  <dcterms:modified xsi:type="dcterms:W3CDTF">2009-08-04T04:48:16Z</dcterms:modified>
  <cp:revision>2</cp:revision>
  <dc:subject/>
  <dc:title>Slide 1</dc:title>
</cp:coreProperties>
</file>